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980238" cy="92122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83A4-4D4C-438C-9B49-CFB46F476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6774-8C07-4B66-8664-0CCF1ED9E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72A9-92E2-4C48-8D7D-F96AEFB47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FD68-99E1-435B-B216-B110F085E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82CB-DA6D-44BE-8054-02DC6F6B8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8FEE-444A-41E8-98E5-C25899354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4CC8-02D3-4768-A9E0-32C79E534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1562-8FB1-49B5-8809-0C0F03442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489F-A512-48C4-835D-88C2994E4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AA8D-9E32-4D41-AB07-4AA45EEDD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099E-62F6-4714-912C-C4B148C0A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E19D-7E6A-4AC1-AB42-AAE25962B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29094-DA49-4862-8E5B-35869253CC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658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658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800280" y="514440"/>
            <a:ext cx="7543800" cy="58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00280" y="514440"/>
            <a:ext cx="7543800" cy="58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800280" y="514440"/>
            <a:ext cx="7543800" cy="58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800280" y="514440"/>
            <a:ext cx="7543800" cy="58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800280" y="514440"/>
            <a:ext cx="7543800" cy="58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800280" y="514440"/>
            <a:ext cx="7543800" cy="58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6T19:29:31Z</dcterms:created>
  <dc:creator>Joe Atocha</dc:creator>
  <dc:description/>
  <dc:language>en-US</dc:language>
  <cp:lastModifiedBy>dmcdonal</cp:lastModifiedBy>
  <cp:lastPrinted>2002-08-08T23:58:33Z</cp:lastPrinted>
  <dcterms:modified xsi:type="dcterms:W3CDTF">2008-03-26T15:21:55Z</dcterms:modified>
  <cp:revision>21</cp:revision>
  <dc:subject/>
  <dc:title>E Series HRM Quick Start Guide</dc:title>
</cp:coreProperties>
</file>